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F55-FC38-4B6D-81EC-4C21BE39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61E-7CCF-4526-A167-D79767D3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1EE-E58C-4A99-937C-1ADB904A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149-545C-409F-9965-6EF0E4C4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D22-BB7B-4437-B854-53EBB53F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5EB-9D6E-4729-AC8A-6779CA30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FF3-7268-4DC1-BE6D-C8E28CD4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25E-4F16-4D51-A00C-50C37A57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E40-CA53-4F66-A6FE-D9015B07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8E2-46C8-46B9-B00C-BF598723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0FE-BBA4-40F2-AE22-EA01E333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D47-59B5-4BF6-8581-D1078E19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DBB0-FA70-4E91-94A8-947834F3E9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知识框架" descr=""/>
          <p:cNvPicPr/>
          <p:nvPr/>
        </p:nvPicPr>
        <p:blipFill>
          <a:blip r:embed="rId1"/>
          <a:stretch/>
        </p:blipFill>
        <p:spPr>
          <a:xfrm>
            <a:off x="762120" y="343080"/>
            <a:ext cx="4190760" cy="70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295280" y="1295280"/>
          <a:ext cx="6172200" cy="550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61722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习题精练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876560" cy="82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80880" y="1523880"/>
          <a:ext cx="7844040" cy="817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523880"/>
                    <a:ext cx="7844040" cy="817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600200" y="2971800"/>
          <a:ext cx="4186080" cy="58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2971800"/>
                    <a:ext cx="41860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133640" y="4647240"/>
            <a:ext cx="68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化学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8840" y="4647240"/>
            <a:ext cx="47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电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895480" y="5181480"/>
          <a:ext cx="2519640" cy="588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5181480"/>
                    <a:ext cx="2519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习题精练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876560" cy="820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2147040"/>
            <a:ext cx="8382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人类的生产和生活都离不开燃料。下面是人类大规模使用燃料的大致顺序：木柴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→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木炭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→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煤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→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石油、天然气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述燃料中属于化石燃料的有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属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纯净物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混合物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中通常被称为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清洁能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目前全球能源紧缺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类生活生产中重要的三大化石燃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属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再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可再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源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因此开发新能源显得尤为重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720" y="2971800"/>
            <a:ext cx="43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煤、石油、天然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3080" y="327672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MingLiU_HKSCS"/>
              </a:rPr>
              <a:t>混合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5640" y="3657600"/>
            <a:ext cx="8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然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75360" y="4648320"/>
            <a:ext cx="104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可再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习题精练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876560" cy="820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48320" y="1218240"/>
            <a:ext cx="447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表是几种可燃物在压强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 kP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的沸点。请你回答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05120" y="1676520"/>
          <a:ext cx="4190400" cy="914040"/>
        </p:xfrm>
        <a:graphic>
          <a:graphicData uri="http://schemas.openxmlformats.org/drawingml/2006/table">
            <a:tbl>
              <a:tblPr/>
              <a:tblGrid>
                <a:gridCol w="770760"/>
                <a:gridCol w="653760"/>
                <a:gridCol w="692640"/>
                <a:gridCol w="693000"/>
                <a:gridCol w="692640"/>
                <a:gridCol w="687600"/>
              </a:tblGrid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可燃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H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沸点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/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－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－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88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－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－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04920" y="2895480"/>
          <a:ext cx="7975440" cy="461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895480"/>
                    <a:ext cx="797544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447920" y="3124080"/>
          <a:ext cx="3809880" cy="600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3124080"/>
                    <a:ext cx="38098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883840" y="3550680"/>
            <a:ext cx="806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120" y="4541040"/>
            <a:ext cx="887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53240" y="5333040"/>
            <a:ext cx="345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子中所含碳原子越多</a:t>
            </a:r>
            <a:r>
              <a:rPr b="0" lang="zh-CN" sz="2200" spc="-1" strike="noStrike">
                <a:solidFill>
                  <a:srgbClr val="ff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沸点越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46124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州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合理运用燃烧与灭火的化学原理对保障生命财产安全非常重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201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广州建业大厦发生严重火灾。从燃烧条件分析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厦内存放的大量鞋、纸箱等物品充当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高层建筑物通常设计了灭火用的洒水系统。从灭火原理分析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洒水的作用主要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析下列表中的数据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回答问题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习题精练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876560" cy="82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2057400" y="3886200"/>
          <a:ext cx="4343040" cy="2666160"/>
        </p:xfrm>
        <a:graphic>
          <a:graphicData uri="http://schemas.openxmlformats.org/drawingml/2006/table">
            <a:tbl>
              <a:tblPr/>
              <a:tblGrid>
                <a:gridCol w="1207800"/>
                <a:gridCol w="853920"/>
                <a:gridCol w="760680"/>
                <a:gridCol w="662040"/>
                <a:gridCol w="858600"/>
              </a:tblGrid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物质代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熔点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/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－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－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沸点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/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8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－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着火点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/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277600" y="2286000"/>
            <a:ext cx="8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燃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7920" y="2971800"/>
            <a:ext cx="32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降低温度使可燃物达不到着火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习题精练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876560" cy="820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1294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人认为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物质的熔、沸点越高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着火点越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合理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合理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95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3352680" cy="171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880" y="49669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酒精灯火焰的温度约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℃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利用如图装置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验证达到可燃物着火点是燃烧的条件之一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表中可用于完成该实验的两种可燃物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代号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62800" y="1600200"/>
            <a:ext cx="8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合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2680" y="548640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29200" y="5486400"/>
            <a:ext cx="85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或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习题精练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876560" cy="82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380880" y="1219320"/>
          <a:ext cx="8077320" cy="32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8077320" cy="32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1E" descr=""/>
          <p:cNvPicPr/>
          <p:nvPr/>
        </p:nvPicPr>
        <p:blipFill>
          <a:blip r:embed="rId4"/>
          <a:stretch/>
        </p:blipFill>
        <p:spPr>
          <a:xfrm>
            <a:off x="1752480" y="4419720"/>
            <a:ext cx="5867640" cy="1701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98840" y="2284920"/>
            <a:ext cx="90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然气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90720" y="3352680"/>
          <a:ext cx="2743200" cy="588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352680"/>
                    <a:ext cx="27432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习题精练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876560" cy="82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304920" y="1452600"/>
          <a:ext cx="8188200" cy="678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52600"/>
                    <a:ext cx="8188200" cy="67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553720" y="220896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∶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28320" y="3169440"/>
            <a:ext cx="54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38560" y="4875840"/>
            <a:ext cx="68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氢气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90920" y="5562720"/>
          <a:ext cx="3566880" cy="58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5562720"/>
                    <a:ext cx="3566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习题精练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876560" cy="82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1551960"/>
            <a:ext cx="8273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莆田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化学知识解释成语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釜底抽薪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说法中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合理的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清除可燃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隔绝空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使可燃物的温度降到着火点以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降低可燃物的着火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津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气体与空气混合后遇明火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能发生爆炸的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甲烷　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氮气　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氧气　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二氧化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呼和浩特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化学变化中吸收热量的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高温煅烧石灰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红磷在氧气中燃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锌和稀硫酸反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生石灰与水反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8320" y="15238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4800" y="38862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2080" y="48769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习题精练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876560" cy="82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1370160"/>
            <a:ext cx="8458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银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关于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燃烧和灭火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叙述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确的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室内起火时打开门窗通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炒菜时油锅着火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即盖上锅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有含碳元素的物质才能燃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要温度达到着火点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燃物就能燃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江西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探究燃烧条件的实验中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能得出燃烧需要氧气结论的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94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3429000" cy="282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78760" y="137160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7800" y="3429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习题精练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876560" cy="82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1430640"/>
            <a:ext cx="8312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古语道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要实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火要虚。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此话的意思是说：做人必须脚踏实地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事业才能有成；燃烧固体燃料需要架空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燃烧才能更旺。从燃烧的条件看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火要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实质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增大可燃物的热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高空气中氧气的含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高可燃物的着火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增大可燃物与空气的接触面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南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·5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世界环境日中国主题为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向污染宣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下列有关环境的说法不正确的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</a:t>
            </a:r>
            <a:r>
              <a:rPr b="0" lang="zh-CN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指大气中直径小于或等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μm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颗粒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雾霾是一种自然现象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人体健康影响不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氧化碳是主要的温室气体之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汽车尾气是城市空气的污染源之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1880" y="19810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5040" y="464832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7318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习题精练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876560" cy="820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33960" y="2207880"/>
            <a:ext cx="6194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绍兴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做法科学的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嘴吹灭酒精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锅内的油着火时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水浇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高层建筑内发生火灾时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们应乘电梯快速下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逃离浓烟密布的火灾现场时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应俯身并用湿毛巾掩盖口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920" y="22096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习题精练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4876560" cy="820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93720" y="989640"/>
            <a:ext cx="311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知识归纳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完全正确的一组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47920" y="1447920"/>
          <a:ext cx="5181480" cy="526392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A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化学反应中的能量变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B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实验中的现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①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物质的缓慢氧化均放出热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②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化学反应中能量变化只能表现为热量的变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③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有的化学反应放出热量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MingLiU_HKSCS"/>
                        </a:rPr>
                        <a:t>，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有的化学反应吸收热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①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红磷在空气中燃烧产生大量白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②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将铁钉放入硫酸铜溶液中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MingLiU_HKSCS"/>
                        </a:rPr>
                        <a:t>，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铁钉表面有红色固体生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③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铁丝在氧气中燃烧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MingLiU_HKSCS"/>
                        </a:rPr>
                        <a:t>，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火星四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物质利用与环境保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物质的性质与用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①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使用乙醇汽油可减少汽车尾气污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②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合理使用农药化肥可减少水污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③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使用天然气可缓解温室效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①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金刚石坚硬可用作划玻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②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石墨有润滑作用可作润滑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③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干冰升华吸热可作制冷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5335920" y="990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习题精练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4876560" cy="820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12942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通常情况下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燃烧需要三个条件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所示的实验中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证明可燃物燃烧与温度有关的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2422440"/>
            <a:ext cx="121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2422440"/>
            <a:ext cx="121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422440"/>
            <a:ext cx="121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422440"/>
            <a:ext cx="121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8120" y="1905120"/>
          <a:ext cx="6858000" cy="427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905120"/>
                    <a:ext cx="685800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96960" y="3427920"/>
            <a:ext cx="34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③④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　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②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②④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　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①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11680" y="167652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习题精练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4876560" cy="82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57200" y="1219320"/>
          <a:ext cx="7954920" cy="6481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19320"/>
                    <a:ext cx="795492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573800" y="22096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9200" y="44956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习题精练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876560" cy="820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1218240"/>
            <a:ext cx="8458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二、填空简答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13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淮安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同学做红磷在氧气中燃烧实验时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点燃的红磷伸入盛有氧气的集气瓶中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红磷剧烈燃烧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过一会儿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燃烧匙内火焰熄灭。接着立即从集气瓶中取出燃烧匙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熄灭的红磷又复燃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你分析红磷复燃的原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消防队员在火灾现场扑灭明火后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还要继续洒水的原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94A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2895840" cy="1998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3200400"/>
            <a:ext cx="8537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红磷温度达到着火点</a:t>
            </a:r>
            <a:r>
              <a:rPr b="0" lang="zh-CN" sz="2100" spc="-1" strike="noStrike">
                <a:solidFill>
                  <a:srgbClr val="ff0000"/>
                </a:solidFill>
                <a:latin typeface="MingLiU_HKSCS"/>
                <a:ea typeface="MingLiU_HKSCS"/>
              </a:rPr>
              <a:t>，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集气瓶中取出后与空气中的氧气接触发生燃烧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43440" y="4114800"/>
            <a:ext cx="31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降低可燃物温度</a:t>
            </a:r>
            <a:r>
              <a:rPr b="0" lang="zh-CN" sz="2200" spc="-1" strike="noStrike">
                <a:solidFill>
                  <a:srgbClr val="ff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防止发生复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07:57:25Z</dcterms:created>
  <dc:creator>Administrator</dc:creator>
  <dc:description/>
  <dc:language>en-US</dc:language>
  <cp:lastModifiedBy>Sky123.Org</cp:lastModifiedBy>
  <dcterms:modified xsi:type="dcterms:W3CDTF">2015-05-14T05:20:1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